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469-2C96-4B3C-81CC-EF7A3050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6D6-FED4-4C0F-86DA-C4880FD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49F-AC5C-4F6B-9E32-A980FEE6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960-F7C8-4E85-B54A-50D081D3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9F45-4D68-4105-BAED-9E0D4197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72C-F340-4B42-9938-537426BD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7313-2CE4-4263-AC39-FC3AC27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8715-2FCD-42B0-8227-13D74C2B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E27-5A0D-42B3-80BA-422437C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0A9B-CFA1-494E-A8C8-10F1293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026-BCC1-4534-9D37-27FC662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56B-9EEA-4D79-A5A8-F4D6A72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0263-6403-41F6-B756-99297C0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125F-ABE7-493D-9D6D-2C91657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E67E-E1DA-4FA6-A04E-A030CFFB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232B-C008-4E35-97C5-12D867F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5ACD-923D-44D7-A3EB-12C58567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42A-5992-4C13-B456-8C90123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22C-B861-4B8A-8807-56CC363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988-F6FA-458F-B865-CA7026C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7BE-2C8B-4D3E-AB5A-DB34430B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1DF-03DA-48AC-8845-3B6DF9F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613-D6C7-48AF-B35A-E5B36FC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126-E5ED-4F54-B2F3-A4DF3BF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C64-B2E0-4ED2-A6CE-EC0A051D7DF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C44-9095-4DDB-877B-7084097FB37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о-родово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640" y="4220640"/>
            <a:ext cx="5113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</a:rPr>
              <a:t>центральная проблема романа М.Е.Салтыкова-Щедрина «Господа Головлевы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9440" y="3429000"/>
            <a:ext cx="2408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Обратимся к «Словарю русского языка»</a:t>
            </a:r>
            <a:br>
              <a:rPr sz="2800"/>
            </a:b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С. И. Ожег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Семья – это группа живущи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вместе родственников,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объединение людей, сплоченны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едиными интересами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Род- коллектив кровных родственников, ведущих происхождение от общего предк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Мир -  объединённое по каким–н. признакам человеческое общество, общественная среда, стро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Что такое сем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себя продала за 6 тыс. душ для братьев…(А.Смирнова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признаюсь, для меня даже противно видеть, когда мать хвастается своим сыном. (Н.Гоголь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не люблю, а так, не знаю, как тебе сказать. Без тебя и когда вот так у нас какая-то кошка пробежит, я как будто пропал и ничего не могу. (Н.Ростов, «Война и мир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Хочешь быть счастливым? Выучись сперва страдать. (И.Тургенев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ведь дети образ Христов…он велел их чтить и любить, они будущее человечество. (Р.Раскольников, «Преступление и наказание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Рубль в России 188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держание больницы в год – 35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Жалованье врача – 1000-15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фельдшера – 3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чальника станции – 2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шиниста – 447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Рабочего – 10руб. в меся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уд хлеба – 96 коп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Домострой –свод правил поведения горож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пошлет Бог кому детей, сыновей и дочерей, то заботиться отцу и матери о чадах своих, обеспечить их и воспитать в доброй науке: учить страху Божию и вежливости и всякому порядку. А со временем, по детям смотря и по возрасту, учить их рукоделию, отец - сыновей, а мать - дочерей, кто чего достоин, какие кому Бог способности дас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тец - глава семьи, его слова - закон. Мать - его помощница. Во всех взглядах на малое или большое - они един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Любите отца своего и мать свою и слушайтесь их, и повинуйтесь им Божески во всем, и старость их чтите, и страдание всякое от всей души на себя возложит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46:41Z</dcterms:created>
  <dc:creator>user</dc:creator>
  <dc:description/>
  <dc:language>en-US</dc:language>
  <cp:lastModifiedBy>user</cp:lastModifiedBy>
  <dcterms:modified xsi:type="dcterms:W3CDTF">2009-01-19T18:06:32Z</dcterms:modified>
  <cp:revision>2</cp:revision>
  <dc:subject/>
  <dc:title>Слайд 1</dc:title>
</cp:coreProperties>
</file>